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24F9B-DB04-4CE9-9076-E120E117E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B3DC1-11FA-4448-9F67-758088F33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1E044-A51D-4C88-9BBE-AE8231D84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36D54-9331-4693-BAFE-A9A28CD44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01665-E3CB-40DA-9F6A-36D6CE396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CF0F6-1078-4A4B-ADC1-960EB3BC8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268D8-9ED6-41D3-9A4B-05EB0C30B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C0CE3-F5C8-4B1A-8071-99C65AFCE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12DF0-8812-401E-8D48-6838BABD9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685800" y="1767960"/>
            <a:ext cx="7772400" cy="80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159F4-845B-4404-8AA8-046DB82D7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10B37-3DAC-4411-971A-F817DC9CF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E67A9-63AD-47DE-8DF1-C6D9919AA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7FF2B-F523-4A08-8BD8-FE1BC9632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0917C-99BC-4C32-95B4-BE7538822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E1B15-8686-448B-8B8A-EA031A2AC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A3D6D-026D-4DF1-B773-68856AE8B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E1719-EE23-4328-AA81-BD9EF47A2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A4843-C98F-457A-9368-69BF1E254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50022-574F-4D40-BACA-E3DE12DB1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9BE4D-0233-4512-B7C0-5C58CC571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685800" y="1767960"/>
            <a:ext cx="7772400" cy="80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720B9-99D1-4BA9-8933-00F47183E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BB394-B749-468E-A519-276953C9A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3A41F-AD3A-48F5-B75E-4D0ED41A7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AE57F-831B-4DBC-9576-87292B35F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0FEBB-6AAB-44D4-BCDC-B90AED22D4CB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A0A94-F29A-4D3B-AB88-7EA099D36C32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b9efee"/>
              </a:buClr>
              <a:buFont typeface="Garamond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Garamond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ccff66"/>
              </a:buClr>
              <a:buFont typeface="Garamond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b9efee"/>
                </a:solidFill>
                <a:latin typeface="Garamond"/>
              </a:rPr>
              <a:t>О профилактике жестокого обращения в отношении несовершеннолетних</a:t>
            </a: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2340000" y="44366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Семинар-совещание с органами местного самоуправления, осуществляющими управление в сфере образования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5:01:39Z</dcterms:created>
  <dc:creator>name</dc:creator>
  <dc:description/>
  <dc:language>en-US</dc:language>
  <cp:lastModifiedBy>name</cp:lastModifiedBy>
  <dcterms:modified xsi:type="dcterms:W3CDTF">2015-09-16T07:24:30Z</dcterms:modified>
  <cp:revision>2</cp:revision>
  <dc:subject/>
  <dc:title>О профилактике жестокого обращения в отношении несовершеннолетних</dc:title>
</cp:coreProperties>
</file>